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684-2DB9-40A6-BD41-9009E1D7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774-6E13-4FE4-BC75-85088CD8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E9D-D7AE-4896-9F62-2F75FE6D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99C-581C-41A2-BAAE-8FD17CD9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1D3-A20F-47B4-90C0-E50BA8FA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A23-B3B5-482C-BEE1-F42F6E2F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B37-4019-421A-9160-18696A5E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C98-7732-40D4-8290-EC6BEDEB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DAC-F45D-412F-9AB7-E9E4E4A8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EE7-7D27-4790-A6B7-897163B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933-B137-4CF1-B7DC-9C990161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1B2-7297-4AB9-9038-F611961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89F0-5E6D-4242-BC7F-E1746557593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20" y="115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04880" y="404640"/>
            <a:ext cx="8564400" cy="6046920"/>
            <a:chOff x="704880" y="404640"/>
            <a:chExt cx="8564400" cy="6046920"/>
          </a:xfrm>
        </p:grpSpPr>
        <p:sp>
          <p:nvSpPr>
            <p:cNvPr id="43" name=""/>
            <p:cNvSpPr/>
            <p:nvPr/>
          </p:nvSpPr>
          <p:spPr>
            <a:xfrm>
              <a:off x="151776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04880" y="404640"/>
              <a:ext cx="8564400" cy="60469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56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756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36520" y="2043000"/>
              <a:ext cx="3816360" cy="287280"/>
            </a:xfrm>
            <a:custGeom>
              <a:avLst/>
              <a:gdLst/>
              <a:ahLst/>
              <a:rect l="l" t="t" r="r" b="b"/>
              <a:pathLst>
                <a:path w="590" h="181">
                  <a:moveTo>
                    <a:pt x="0" y="0"/>
                  </a:moveTo>
                  <a:lnTo>
                    <a:pt x="0" y="181"/>
                  </a:lnTo>
                  <a:lnTo>
                    <a:pt x="590" y="181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68080" y="2095560"/>
              <a:ext cx="357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Undo (press) / Reverse count (hold + counter ke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1776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756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756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11800" y="5956200"/>
              <a:ext cx="1185840" cy="168480"/>
            </a:xfrm>
            <a:custGeom>
              <a:avLst/>
              <a:gdLst/>
              <a:ahLst/>
              <a:rect l="l" t="t" r="r" b="b"/>
              <a:pathLst>
                <a:path w="772" h="136">
                  <a:moveTo>
                    <a:pt x="0" y="0"/>
                  </a:moveTo>
                  <a:lnTo>
                    <a:pt x="0" y="136"/>
                  </a:lnTo>
                  <a:lnTo>
                    <a:pt x="772" y="136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67120" y="5891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hift-2 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556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2556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2556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210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210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210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1624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1624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1624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556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556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210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210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624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624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2320" y="5654520"/>
              <a:ext cx="0" cy="23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20880" y="5884920"/>
              <a:ext cx="6445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7835760" y="4227480"/>
              <a:ext cx="1390680" cy="695520"/>
              <a:chOff x="7835760" y="4227480"/>
              <a:chExt cx="1390680" cy="695520"/>
            </a:xfrm>
          </p:grpSpPr>
          <p:sp>
            <p:nvSpPr>
              <p:cNvPr id="72" name=""/>
              <p:cNvSpPr/>
              <p:nvPr/>
            </p:nvSpPr>
            <p:spPr>
              <a:xfrm>
                <a:off x="7835760" y="4227480"/>
                <a:ext cx="695160" cy="69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&lt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,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530920" y="4227480"/>
                <a:ext cx="695520" cy="69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82556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556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556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210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210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2108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1624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624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1624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8308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8308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308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7860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7860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7860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7376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7376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7376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4060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4060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4060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3576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3576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312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312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556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556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210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210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1624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1624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8308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8308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7860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7860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7376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7376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060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4060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3576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3576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312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312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960" y="2906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9960" y="890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000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1000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000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0552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552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0552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0068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068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0068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000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000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0552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0552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068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068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0220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3240" y="5654520"/>
              <a:ext cx="0" cy="157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0220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53840" y="5811840"/>
              <a:ext cx="132120" cy="14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3" y="54"/>
                  </a:moveTo>
                  <a:arcTo wR="10800" hR="10800" stAng="-5743544" swAng="1148996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3" y="54"/>
                  </a:moveTo>
                  <a:arcTo wR="10800" hR="10800" stAng="-5743544" swAng="11489963"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82680" y="2906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82680" y="890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9300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9300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9300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8816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8816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8816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36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36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36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9300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300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8816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8816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36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36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84840" y="49118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2360" y="5654520"/>
              <a:ext cx="0" cy="23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53360" y="565164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hift-1 k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84840" y="51166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71800" y="2906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71800" y="890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8769240" y="5950080"/>
            <a:ext cx="406440" cy="40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69240" y="5950080"/>
                      <a:ext cx="4064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6350040" y="5964120"/>
              <a:ext cx="2416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olyCounter 2.6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http://dendro.naruto-u.ac.jp/~nakagawa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774720" y="5919840"/>
            <a:ext cx="96516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720" y="5919840"/>
                      <a:ext cx="965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0400" y="115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04880" y="404640"/>
            <a:ext cx="8564400" cy="6046920"/>
            <a:chOff x="704880" y="404640"/>
            <a:chExt cx="8564400" cy="6046920"/>
          </a:xfrm>
        </p:grpSpPr>
        <p:sp>
          <p:nvSpPr>
            <p:cNvPr id="168" name=""/>
            <p:cNvSpPr/>
            <p:nvPr/>
          </p:nvSpPr>
          <p:spPr>
            <a:xfrm>
              <a:off x="704880" y="404640"/>
              <a:ext cx="8564400" cy="60469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7860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45964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845964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019120" y="2043000"/>
              <a:ext cx="3816360" cy="287280"/>
            </a:xfrm>
            <a:custGeom>
              <a:avLst/>
              <a:gdLst/>
              <a:ahLst/>
              <a:rect l="l" t="t" r="r" b="b"/>
              <a:pathLst>
                <a:path w="590" h="181">
                  <a:moveTo>
                    <a:pt x="0" y="0"/>
                  </a:moveTo>
                  <a:lnTo>
                    <a:pt x="0" y="181"/>
                  </a:lnTo>
                  <a:lnTo>
                    <a:pt x="590" y="181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929840" y="2095560"/>
              <a:ext cx="357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Undo (press) / Reverse count (hold + counter ke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720" y="5654520"/>
              <a:ext cx="0" cy="157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50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750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750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7024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7024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7024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576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6576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576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750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750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024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7024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6576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6576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750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750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7508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024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7024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7024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576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6576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6576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750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750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7024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7024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6576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6576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17788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45964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45964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488920" y="5811840"/>
              <a:ext cx="132120" cy="14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3" y="54"/>
                  </a:moveTo>
                  <a:arcTo wR="10800" hR="10800" stAng="-5743544" swAng="1148996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3" y="54"/>
                  </a:moveTo>
                  <a:arcTo wR="10800" hR="10800" stAng="-5743544" swAng="11489963"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376880" y="5956200"/>
              <a:ext cx="1185840" cy="168480"/>
            </a:xfrm>
            <a:custGeom>
              <a:avLst/>
              <a:gdLst/>
              <a:ahLst/>
              <a:rect l="l" t="t" r="r" b="b"/>
              <a:pathLst>
                <a:path w="772" h="136">
                  <a:moveTo>
                    <a:pt x="0" y="0"/>
                  </a:moveTo>
                  <a:lnTo>
                    <a:pt x="0" y="136"/>
                  </a:lnTo>
                  <a:lnTo>
                    <a:pt x="772" y="136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303080" y="5891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hift-2 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49200" y="2906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9092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68560" y="5654520"/>
              <a:ext cx="0" cy="23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638000" y="565164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hift-1 k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8740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8740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8740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8256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8256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8256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780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80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780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740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740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8256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8256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780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780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8740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8740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8740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8256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8256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8256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780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780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7808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8740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8740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8256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8256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780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780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59020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3600" y="2906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53600" y="890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9200" y="890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6448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55080" y="5654520"/>
              <a:ext cx="0" cy="23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712880" y="5884920"/>
              <a:ext cx="6445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6096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6096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6096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564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564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564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164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5164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5164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6096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6096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564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564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5164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5164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56480" y="4227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51640" y="4227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6096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6096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6096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564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564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5164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5164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6096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6096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564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564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5164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5164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76376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41560" y="2906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41560" y="8906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Arial"/>
                </a:rPr>
                <a:t>Defa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5" name=""/>
            <p:cNvGraphicFramePr/>
            <p:nvPr/>
          </p:nvGraphicFramePr>
          <p:xfrm>
            <a:off x="8769240" y="5950080"/>
            <a:ext cx="406440" cy="40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69240" y="5950080"/>
                      <a:ext cx="4064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"/>
            <p:cNvSpPr/>
            <p:nvPr/>
          </p:nvSpPr>
          <p:spPr>
            <a:xfrm>
              <a:off x="6350040" y="5964120"/>
              <a:ext cx="2416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olyCounter 2.6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http://dendro.naruto-u.ac.jp/~nakagawa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774720" y="5919840"/>
            <a:ext cx="96516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720" y="5919840"/>
                      <a:ext cx="965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320" y="115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04880" y="404640"/>
            <a:ext cx="8564400" cy="6046920"/>
            <a:chOff x="704880" y="404640"/>
            <a:chExt cx="8564400" cy="6046920"/>
          </a:xfrm>
        </p:grpSpPr>
        <p:sp>
          <p:nvSpPr>
            <p:cNvPr id="292" name=""/>
            <p:cNvSpPr/>
            <p:nvPr/>
          </p:nvSpPr>
          <p:spPr>
            <a:xfrm>
              <a:off x="151776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880" y="404640"/>
              <a:ext cx="8564400" cy="60469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756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756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36520" y="2043000"/>
              <a:ext cx="3816360" cy="287280"/>
            </a:xfrm>
            <a:custGeom>
              <a:avLst/>
              <a:gdLst/>
              <a:ahLst/>
              <a:rect l="l" t="t" r="r" b="b"/>
              <a:pathLst>
                <a:path w="590" h="181">
                  <a:moveTo>
                    <a:pt x="0" y="0"/>
                  </a:moveTo>
                  <a:lnTo>
                    <a:pt x="0" y="181"/>
                  </a:lnTo>
                  <a:lnTo>
                    <a:pt x="590" y="181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68080" y="2095560"/>
              <a:ext cx="357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Undo (press) / Reverse count (hold + counter ke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756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756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11800" y="5956200"/>
              <a:ext cx="1185840" cy="168480"/>
            </a:xfrm>
            <a:custGeom>
              <a:avLst/>
              <a:gdLst/>
              <a:ahLst/>
              <a:rect l="l" t="t" r="r" b="b"/>
              <a:pathLst>
                <a:path w="772" h="136">
                  <a:moveTo>
                    <a:pt x="0" y="0"/>
                  </a:moveTo>
                  <a:lnTo>
                    <a:pt x="0" y="136"/>
                  </a:lnTo>
                  <a:lnTo>
                    <a:pt x="772" y="136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67120" y="5891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hift-2 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2556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2556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2556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210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210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210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1624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1624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1624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556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556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210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210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1624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1624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22320" y="5654520"/>
              <a:ext cx="0" cy="23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20880" y="5884920"/>
              <a:ext cx="6445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7835760" y="4227480"/>
              <a:ext cx="1390680" cy="695520"/>
              <a:chOff x="7835760" y="4227480"/>
              <a:chExt cx="1390680" cy="695520"/>
            </a:xfrm>
          </p:grpSpPr>
          <p:sp>
            <p:nvSpPr>
              <p:cNvPr id="321" name=""/>
              <p:cNvSpPr/>
              <p:nvPr/>
            </p:nvSpPr>
            <p:spPr>
              <a:xfrm>
                <a:off x="7835760" y="4227480"/>
                <a:ext cx="695160" cy="69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&lt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,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30920" y="4227480"/>
                <a:ext cx="695520" cy="69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82556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2556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556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10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210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2108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1624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1624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1624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8308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8308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8308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7860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7860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7860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7376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7376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7376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4060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4060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060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3576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576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312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312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2556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2556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210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210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1624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1624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8308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8308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860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7860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7376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7376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4060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060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3576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3576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5312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5312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000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000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000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0552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0552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0552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068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0068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0068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000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1000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0552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0552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0068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0068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0220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3240" y="5654520"/>
              <a:ext cx="0" cy="157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0220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53840" y="5811840"/>
              <a:ext cx="132120" cy="14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3" y="54"/>
                  </a:moveTo>
                  <a:arcTo wR="10800" hR="10800" stAng="-5743544" swAng="1148996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3" y="54"/>
                  </a:moveTo>
                  <a:arcTo wR="10800" hR="10800" stAng="-5743544" swAng="11489963"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9300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9300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9300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8816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8816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8816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836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36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836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9300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9300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8816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8816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36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836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84840" y="49118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2360" y="5654520"/>
              <a:ext cx="0" cy="23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53360" y="565164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hift-1 k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84840" y="51166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8769240" y="5950080"/>
            <a:ext cx="406440" cy="40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69240" y="5950080"/>
                      <a:ext cx="4064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6" name=""/>
            <p:cNvSpPr/>
            <p:nvPr/>
          </p:nvSpPr>
          <p:spPr>
            <a:xfrm>
              <a:off x="6350040" y="5964120"/>
              <a:ext cx="2416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olyCounter 2.6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http://dendro.naruto-u.ac.jp/~nakagawa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7" name=""/>
            <p:cNvGraphicFramePr/>
            <p:nvPr/>
          </p:nvGraphicFramePr>
          <p:xfrm>
            <a:off x="774720" y="5919840"/>
            <a:ext cx="96516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720" y="5919840"/>
                      <a:ext cx="965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40400" y="115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04880" y="404640"/>
            <a:ext cx="8564400" cy="6046920"/>
            <a:chOff x="704880" y="404640"/>
            <a:chExt cx="8564400" cy="6046920"/>
          </a:xfrm>
        </p:grpSpPr>
        <p:sp>
          <p:nvSpPr>
            <p:cNvPr id="411" name=""/>
            <p:cNvSpPr/>
            <p:nvPr/>
          </p:nvSpPr>
          <p:spPr>
            <a:xfrm>
              <a:off x="704880" y="404640"/>
              <a:ext cx="8564400" cy="60469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7860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845964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45964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019120" y="2043000"/>
              <a:ext cx="3816360" cy="287280"/>
            </a:xfrm>
            <a:custGeom>
              <a:avLst/>
              <a:gdLst/>
              <a:ahLst/>
              <a:rect l="l" t="t" r="r" b="b"/>
              <a:pathLst>
                <a:path w="590" h="181">
                  <a:moveTo>
                    <a:pt x="0" y="0"/>
                  </a:moveTo>
                  <a:lnTo>
                    <a:pt x="0" y="181"/>
                  </a:lnTo>
                  <a:lnTo>
                    <a:pt x="590" y="181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929840" y="2095560"/>
              <a:ext cx="357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Undo (press) / Reverse count (hold + counter ke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62720" y="5654520"/>
              <a:ext cx="0" cy="157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750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750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750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7024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7024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7024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750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750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7024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7024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6576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6576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750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750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7508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7024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024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024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6576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6576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6576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750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7024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7024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6576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6576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17788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45964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845964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488920" y="5811840"/>
              <a:ext cx="132120" cy="14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3" y="54"/>
                  </a:moveTo>
                  <a:arcTo wR="10800" hR="10800" stAng="-5743544" swAng="1148996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3" y="54"/>
                  </a:moveTo>
                  <a:arcTo wR="10800" hR="10800" stAng="-5743544" swAng="11489963"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376880" y="5956200"/>
              <a:ext cx="1185840" cy="168480"/>
            </a:xfrm>
            <a:custGeom>
              <a:avLst/>
              <a:gdLst/>
              <a:ahLst/>
              <a:rect l="l" t="t" r="r" b="b"/>
              <a:pathLst>
                <a:path w="772" h="136">
                  <a:moveTo>
                    <a:pt x="0" y="0"/>
                  </a:moveTo>
                  <a:lnTo>
                    <a:pt x="0" y="136"/>
                  </a:lnTo>
                  <a:lnTo>
                    <a:pt x="772" y="136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303080" y="5891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hift-2 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092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68560" y="5654520"/>
              <a:ext cx="0" cy="23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638000" y="565164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hift-1 k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8740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8740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8740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8256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8256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8256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780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780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780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740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740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8256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256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780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780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8740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8740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740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8256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8256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8256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780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780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78080" y="417996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8740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8740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8256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8256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780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780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59020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64480" y="49118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4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55080" y="5654520"/>
              <a:ext cx="0" cy="23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1712880" y="5884920"/>
              <a:ext cx="6445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6096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6096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6096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56480" y="258444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56480" y="327960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56480" y="397512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51640" y="258444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51640" y="327960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51640" y="397512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6096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6096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56480" y="620640"/>
              <a:ext cx="69516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56480" y="1316160"/>
              <a:ext cx="69516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51640" y="620640"/>
              <a:ext cx="69552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51640" y="1316160"/>
              <a:ext cx="695520" cy="6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56480" y="4227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51640" y="4227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6096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6096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60960" y="417996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56480" y="27892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756480" y="348444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51640" y="278928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1640" y="348444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6096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096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56480" y="825480"/>
              <a:ext cx="69516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56480" y="152100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51640" y="825480"/>
              <a:ext cx="6955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51640" y="1521000"/>
              <a:ext cx="695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763760" y="5116680"/>
              <a:ext cx="69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b2b2b2"/>
                  </a:solidFill>
                  <a:latin typeface="Arial"/>
                </a:rPr>
                <a:t>Shift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2" name=""/>
            <p:cNvGraphicFramePr/>
            <p:nvPr/>
          </p:nvGraphicFramePr>
          <p:xfrm>
            <a:off x="8769240" y="5950080"/>
            <a:ext cx="406440" cy="40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69240" y="5950080"/>
                      <a:ext cx="4064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"/>
            <p:cNvSpPr/>
            <p:nvPr/>
          </p:nvSpPr>
          <p:spPr>
            <a:xfrm>
              <a:off x="6350040" y="5964120"/>
              <a:ext cx="2416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olyCounter 2.6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http://dendro.naruto-u.ac.jp/~nakagawa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5" name=""/>
            <p:cNvGraphicFramePr/>
            <p:nvPr/>
          </p:nvGraphicFramePr>
          <p:xfrm>
            <a:off x="774720" y="5919840"/>
            <a:ext cx="96516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720" y="5919840"/>
                      <a:ext cx="965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0:44:30Z</dcterms:created>
  <dc:creator>Takeshi Nakagawa</dc:creator>
  <dc:description/>
  <dc:language>en-US</dc:language>
  <cp:lastModifiedBy>Takeshi Nakagawa</cp:lastModifiedBy>
  <dcterms:modified xsi:type="dcterms:W3CDTF">2009-11-27T00:34:25Z</dcterms:modified>
  <cp:revision>30</cp:revision>
  <dc:subject/>
  <dc:title>スライド 1</dc:title>
</cp:coreProperties>
</file>